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E9BF-DE2B-45C1-9B01-C7E7E7CB576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8152-1AE4-437F-A50D-900EEE76CF1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333A-6B8B-4B99-A37C-DCF211B3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0428-04E8-4747-95E4-5A4402F3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1200-FD7B-4C43-8EE5-12B6CB1C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726B-B3B8-4859-BA1A-C928AB0B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51F4-E608-45B4-B2B2-78F9565B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FFFA-4A28-4A59-A402-5A8BF7AF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78A6-FFA2-4C6E-97F7-D40664E6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963A-B6B1-4E5A-88A6-7C5DFB30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A374-6EB9-476F-9BB0-D29EC1D2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9523-56B9-4318-84A6-43135117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68CF-2EC6-41E4-B68A-7DCBD13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28D1-D961-473D-92E8-5C4C13A7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0b0b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05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F425-4F28-4CD1-A512-BF5149DBF6AF}" type="slidenum"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mbria"/>
              </a:rPr>
              <a:t>Metric System Basics</a:t>
            </a:r>
            <a:endParaRPr b="0" lang="en-US" sz="6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52280" y="5257800"/>
          <a:ext cx="8275680" cy="149400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1523880"/>
                <a:gridCol w="1035000"/>
                <a:gridCol w="1181160"/>
                <a:gridCol w="1182600"/>
              </a:tblGrid>
              <a:tr h="1806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52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try our previous example from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ilo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6,093 meters =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,609.3 decameters =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60.93 hectomet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16.093 kilo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74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for every “step” from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e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l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moved the decimal 1 place to th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he same direction as in the diagram be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914400" y="5562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2133720" y="5562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3352680" y="55627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4400" y="4648320"/>
          <a:ext cx="8275680" cy="143172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143000"/>
                <a:gridCol w="1523880"/>
                <a:gridCol w="1035000"/>
                <a:gridCol w="1181160"/>
                <a:gridCol w="1182960"/>
              </a:tblGrid>
              <a:tr h="14382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move to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diagram, move the decimal to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move to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diagram, move the decimal to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838080" y="47242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AutoShape 23"/>
          <p:cNvSpPr/>
          <p:nvPr/>
        </p:nvSpPr>
        <p:spPr>
          <a:xfrm>
            <a:off x="2057400" y="4724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AutoShape 24"/>
          <p:cNvSpPr/>
          <p:nvPr/>
        </p:nvSpPr>
        <p:spPr>
          <a:xfrm>
            <a:off x="3124080" y="47242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AutoShape 25"/>
          <p:cNvSpPr/>
          <p:nvPr/>
        </p:nvSpPr>
        <p:spPr>
          <a:xfrm>
            <a:off x="4724280" y="47242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6934320" y="4724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5715000" y="4724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AutoShape 28"/>
          <p:cNvSpPr/>
          <p:nvPr/>
        </p:nvSpPr>
        <p:spPr>
          <a:xfrm rot="10800000">
            <a:off x="837720" y="57146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AutoShape 29"/>
          <p:cNvSpPr/>
          <p:nvPr/>
        </p:nvSpPr>
        <p:spPr>
          <a:xfrm rot="10800000">
            <a:off x="205740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AutoShape 30"/>
          <p:cNvSpPr/>
          <p:nvPr/>
        </p:nvSpPr>
        <p:spPr>
          <a:xfrm rot="10800000">
            <a:off x="320040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AutoShape 31"/>
          <p:cNvSpPr/>
          <p:nvPr/>
        </p:nvSpPr>
        <p:spPr>
          <a:xfrm rot="10800000">
            <a:off x="473868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AutoShape 32"/>
          <p:cNvSpPr/>
          <p:nvPr/>
        </p:nvSpPr>
        <p:spPr>
          <a:xfrm rot="10800000">
            <a:off x="579132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AutoShape 33"/>
          <p:cNvSpPr/>
          <p:nvPr/>
        </p:nvSpPr>
        <p:spPr>
          <a:xfrm rot="10800000">
            <a:off x="693432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5181480"/>
          <a:ext cx="8275680" cy="143208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143000"/>
                <a:gridCol w="1524240"/>
                <a:gridCol w="1035000"/>
                <a:gridCol w="1181160"/>
                <a:gridCol w="1182600"/>
              </a:tblGrid>
              <a:tr h="14382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15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5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w l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 start from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entimeter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convert to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kilo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00,000 centimeters = ______kilo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0 . 0 . 0 . 0 . 0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imeters = 4 kilo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00,000 centimeters = 4 kilo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43"/>
          <p:cNvSpPr/>
          <p:nvPr/>
        </p:nvSpPr>
        <p:spPr>
          <a:xfrm>
            <a:off x="4648320" y="4191120"/>
            <a:ext cx="914400" cy="75960"/>
          </a:xfrm>
          <a:custGeom>
            <a:avLst/>
            <a:gdLst/>
            <a:ahLst/>
            <a:rect l="l" t="t" r="r" b="b"/>
            <a:pathLst>
              <a:path w="576" h="48">
                <a:moveTo>
                  <a:pt x="576" y="0"/>
                </a:moveTo>
                <a:cubicBezTo>
                  <a:pt x="564" y="24"/>
                  <a:pt x="552" y="48"/>
                  <a:pt x="528" y="48"/>
                </a:cubicBezTo>
                <a:cubicBezTo>
                  <a:pt x="504" y="48"/>
                  <a:pt x="456" y="0"/>
                  <a:pt x="432" y="0"/>
                </a:cubicBezTo>
                <a:cubicBezTo>
                  <a:pt x="408" y="0"/>
                  <a:pt x="400" y="48"/>
                  <a:pt x="384" y="48"/>
                </a:cubicBezTo>
                <a:cubicBezTo>
                  <a:pt x="368" y="48"/>
                  <a:pt x="352" y="0"/>
                  <a:pt x="336" y="0"/>
                </a:cubicBezTo>
                <a:cubicBezTo>
                  <a:pt x="320" y="0"/>
                  <a:pt x="304" y="48"/>
                  <a:pt x="288" y="48"/>
                </a:cubicBezTo>
                <a:cubicBezTo>
                  <a:pt x="272" y="48"/>
                  <a:pt x="256" y="0"/>
                  <a:pt x="240" y="0"/>
                </a:cubicBezTo>
                <a:cubicBezTo>
                  <a:pt x="224" y="0"/>
                  <a:pt x="208" y="48"/>
                  <a:pt x="192" y="48"/>
                </a:cubicBezTo>
                <a:cubicBezTo>
                  <a:pt x="176" y="48"/>
                  <a:pt x="160" y="0"/>
                  <a:pt x="144" y="0"/>
                </a:cubicBezTo>
                <a:cubicBezTo>
                  <a:pt x="128" y="0"/>
                  <a:pt x="120" y="48"/>
                  <a:pt x="96" y="48"/>
                </a:cubicBezTo>
                <a:cubicBezTo>
                  <a:pt x="72" y="48"/>
                  <a:pt x="36" y="24"/>
                  <a:pt x="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1052640" y="5257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2271600" y="5257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3338640" y="5257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4938840" y="5257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AutoShape 27"/>
          <p:cNvSpPr/>
          <p:nvPr/>
        </p:nvSpPr>
        <p:spPr>
          <a:xfrm>
            <a:off x="5929200" y="5257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U-Turn Arrow 1"/>
          <p:cNvSpPr/>
          <p:nvPr/>
        </p:nvSpPr>
        <p:spPr>
          <a:xfrm rot="10800000">
            <a:off x="2743200" y="358092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381000"/>
                </a:moveTo>
                <a:lnTo>
                  <a:pt x="0" y="166688"/>
                </a:lnTo>
                <a:cubicBezTo>
                  <a:pt x="0" y="74629"/>
                  <a:pt x="74629" y="0"/>
                  <a:pt x="166688" y="0"/>
                </a:cubicBezTo>
                <a:lnTo>
                  <a:pt x="166688" y="0"/>
                </a:lnTo>
                <a:cubicBezTo>
                  <a:pt x="258747" y="0"/>
                  <a:pt x="333376" y="74629"/>
                  <a:pt x="333376" y="166688"/>
                </a:cubicBezTo>
                <a:cubicBezTo>
                  <a:pt x="333376" y="174625"/>
                  <a:pt x="333375" y="182563"/>
                  <a:pt x="333375" y="190500"/>
                </a:cubicBezTo>
                <a:lnTo>
                  <a:pt x="381000" y="190500"/>
                </a:lnTo>
                <a:lnTo>
                  <a:pt x="285750" y="285750"/>
                </a:lnTo>
                <a:lnTo>
                  <a:pt x="190500" y="190500"/>
                </a:lnTo>
                <a:lnTo>
                  <a:pt x="238125" y="190500"/>
                </a:lnTo>
                <a:lnTo>
                  <a:pt x="238125" y="166688"/>
                </a:lnTo>
                <a:cubicBezTo>
                  <a:pt x="238125" y="127234"/>
                  <a:pt x="206141" y="95250"/>
                  <a:pt x="166687" y="95250"/>
                </a:cubicBezTo>
                <a:lnTo>
                  <a:pt x="166688" y="95250"/>
                </a:lnTo>
                <a:cubicBezTo>
                  <a:pt x="127234" y="95250"/>
                  <a:pt x="95250" y="127234"/>
                  <a:pt x="95250" y="166688"/>
                </a:cubicBezTo>
                <a:lnTo>
                  <a:pt x="95250" y="381000"/>
                </a:lnTo>
                <a:lnTo>
                  <a:pt x="0" y="381000"/>
                </a:lnTo>
                <a:close/>
              </a:path>
            </a:pathLst>
          </a:custGeom>
          <a:solidFill>
            <a:srgbClr val="050505"/>
          </a:solidFill>
          <a:ln w="12600">
            <a:solidFill>
              <a:srgbClr val="050505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U-Turn Arrow 43"/>
          <p:cNvSpPr/>
          <p:nvPr/>
        </p:nvSpPr>
        <p:spPr>
          <a:xfrm rot="10800000">
            <a:off x="3200400" y="358092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381000"/>
                </a:moveTo>
                <a:lnTo>
                  <a:pt x="0" y="166688"/>
                </a:lnTo>
                <a:cubicBezTo>
                  <a:pt x="0" y="74629"/>
                  <a:pt x="74629" y="0"/>
                  <a:pt x="166688" y="0"/>
                </a:cubicBezTo>
                <a:lnTo>
                  <a:pt x="166688" y="0"/>
                </a:lnTo>
                <a:cubicBezTo>
                  <a:pt x="258747" y="0"/>
                  <a:pt x="333376" y="74629"/>
                  <a:pt x="333376" y="166688"/>
                </a:cubicBezTo>
                <a:cubicBezTo>
                  <a:pt x="333376" y="174625"/>
                  <a:pt x="333375" y="182563"/>
                  <a:pt x="333375" y="190500"/>
                </a:cubicBezTo>
                <a:lnTo>
                  <a:pt x="381000" y="190500"/>
                </a:lnTo>
                <a:lnTo>
                  <a:pt x="285750" y="285750"/>
                </a:lnTo>
                <a:lnTo>
                  <a:pt x="190500" y="190500"/>
                </a:lnTo>
                <a:lnTo>
                  <a:pt x="238125" y="190500"/>
                </a:lnTo>
                <a:lnTo>
                  <a:pt x="238125" y="166688"/>
                </a:lnTo>
                <a:cubicBezTo>
                  <a:pt x="238125" y="127234"/>
                  <a:pt x="206141" y="95250"/>
                  <a:pt x="166687" y="95250"/>
                </a:cubicBezTo>
                <a:lnTo>
                  <a:pt x="166688" y="95250"/>
                </a:lnTo>
                <a:cubicBezTo>
                  <a:pt x="127234" y="95250"/>
                  <a:pt x="95250" y="127234"/>
                  <a:pt x="95250" y="166688"/>
                </a:cubicBezTo>
                <a:lnTo>
                  <a:pt x="95250" y="381000"/>
                </a:lnTo>
                <a:lnTo>
                  <a:pt x="0" y="381000"/>
                </a:lnTo>
                <a:close/>
              </a:path>
            </a:pathLst>
          </a:custGeom>
          <a:solidFill>
            <a:srgbClr val="050505"/>
          </a:solidFill>
          <a:ln w="12600">
            <a:solidFill>
              <a:srgbClr val="050505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U-Turn Arrow 44"/>
          <p:cNvSpPr/>
          <p:nvPr/>
        </p:nvSpPr>
        <p:spPr>
          <a:xfrm rot="10800000">
            <a:off x="2286000" y="358092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381000"/>
                </a:moveTo>
                <a:lnTo>
                  <a:pt x="0" y="166688"/>
                </a:lnTo>
                <a:cubicBezTo>
                  <a:pt x="0" y="74629"/>
                  <a:pt x="74629" y="0"/>
                  <a:pt x="166688" y="0"/>
                </a:cubicBezTo>
                <a:lnTo>
                  <a:pt x="166688" y="0"/>
                </a:lnTo>
                <a:cubicBezTo>
                  <a:pt x="258747" y="0"/>
                  <a:pt x="333376" y="74629"/>
                  <a:pt x="333376" y="166688"/>
                </a:cubicBezTo>
                <a:cubicBezTo>
                  <a:pt x="333376" y="174625"/>
                  <a:pt x="333375" y="182563"/>
                  <a:pt x="333375" y="190500"/>
                </a:cubicBezTo>
                <a:lnTo>
                  <a:pt x="381000" y="190500"/>
                </a:lnTo>
                <a:lnTo>
                  <a:pt x="285750" y="285750"/>
                </a:lnTo>
                <a:lnTo>
                  <a:pt x="190500" y="190500"/>
                </a:lnTo>
                <a:lnTo>
                  <a:pt x="238125" y="190500"/>
                </a:lnTo>
                <a:lnTo>
                  <a:pt x="238125" y="166688"/>
                </a:lnTo>
                <a:cubicBezTo>
                  <a:pt x="238125" y="127234"/>
                  <a:pt x="206141" y="95250"/>
                  <a:pt x="166687" y="95250"/>
                </a:cubicBezTo>
                <a:lnTo>
                  <a:pt x="166688" y="95250"/>
                </a:lnTo>
                <a:cubicBezTo>
                  <a:pt x="127234" y="95250"/>
                  <a:pt x="95250" y="127234"/>
                  <a:pt x="95250" y="166688"/>
                </a:cubicBezTo>
                <a:lnTo>
                  <a:pt x="95250" y="381000"/>
                </a:lnTo>
                <a:lnTo>
                  <a:pt x="0" y="381000"/>
                </a:lnTo>
                <a:close/>
              </a:path>
            </a:pathLst>
          </a:custGeom>
          <a:solidFill>
            <a:srgbClr val="050505"/>
          </a:solidFill>
          <a:ln w="12600">
            <a:solidFill>
              <a:srgbClr val="050505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U-Turn Arrow 45"/>
          <p:cNvSpPr/>
          <p:nvPr/>
        </p:nvSpPr>
        <p:spPr>
          <a:xfrm rot="10800000">
            <a:off x="1828800" y="358092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381000"/>
                </a:moveTo>
                <a:lnTo>
                  <a:pt x="0" y="166688"/>
                </a:lnTo>
                <a:cubicBezTo>
                  <a:pt x="0" y="74629"/>
                  <a:pt x="74629" y="0"/>
                  <a:pt x="166688" y="0"/>
                </a:cubicBezTo>
                <a:lnTo>
                  <a:pt x="166688" y="0"/>
                </a:lnTo>
                <a:cubicBezTo>
                  <a:pt x="258747" y="0"/>
                  <a:pt x="333376" y="74629"/>
                  <a:pt x="333376" y="166688"/>
                </a:cubicBezTo>
                <a:cubicBezTo>
                  <a:pt x="333376" y="174625"/>
                  <a:pt x="333375" y="182563"/>
                  <a:pt x="333375" y="190500"/>
                </a:cubicBezTo>
                <a:lnTo>
                  <a:pt x="381000" y="190500"/>
                </a:lnTo>
                <a:lnTo>
                  <a:pt x="285750" y="285750"/>
                </a:lnTo>
                <a:lnTo>
                  <a:pt x="190500" y="190500"/>
                </a:lnTo>
                <a:lnTo>
                  <a:pt x="238125" y="190500"/>
                </a:lnTo>
                <a:lnTo>
                  <a:pt x="238125" y="166688"/>
                </a:lnTo>
                <a:cubicBezTo>
                  <a:pt x="238125" y="127234"/>
                  <a:pt x="206141" y="95250"/>
                  <a:pt x="166687" y="95250"/>
                </a:cubicBezTo>
                <a:lnTo>
                  <a:pt x="166688" y="95250"/>
                </a:lnTo>
                <a:cubicBezTo>
                  <a:pt x="127234" y="95250"/>
                  <a:pt x="95250" y="127234"/>
                  <a:pt x="95250" y="166688"/>
                </a:cubicBezTo>
                <a:lnTo>
                  <a:pt x="95250" y="381000"/>
                </a:lnTo>
                <a:lnTo>
                  <a:pt x="0" y="381000"/>
                </a:lnTo>
                <a:close/>
              </a:path>
            </a:pathLst>
          </a:custGeom>
          <a:solidFill>
            <a:srgbClr val="050505"/>
          </a:solidFill>
          <a:ln w="12600">
            <a:solidFill>
              <a:srgbClr val="050505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U-Turn Arrow 46"/>
          <p:cNvSpPr/>
          <p:nvPr/>
        </p:nvSpPr>
        <p:spPr>
          <a:xfrm rot="10800000">
            <a:off x="1219320" y="358092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381000"/>
                </a:moveTo>
                <a:lnTo>
                  <a:pt x="0" y="166688"/>
                </a:lnTo>
                <a:cubicBezTo>
                  <a:pt x="0" y="74629"/>
                  <a:pt x="74629" y="0"/>
                  <a:pt x="166688" y="0"/>
                </a:cubicBezTo>
                <a:lnTo>
                  <a:pt x="166688" y="0"/>
                </a:lnTo>
                <a:cubicBezTo>
                  <a:pt x="258747" y="0"/>
                  <a:pt x="333376" y="74629"/>
                  <a:pt x="333376" y="166688"/>
                </a:cubicBezTo>
                <a:cubicBezTo>
                  <a:pt x="333376" y="174625"/>
                  <a:pt x="333375" y="182563"/>
                  <a:pt x="333375" y="190500"/>
                </a:cubicBezTo>
                <a:lnTo>
                  <a:pt x="381000" y="190500"/>
                </a:lnTo>
                <a:lnTo>
                  <a:pt x="285750" y="285750"/>
                </a:lnTo>
                <a:lnTo>
                  <a:pt x="190500" y="190500"/>
                </a:lnTo>
                <a:lnTo>
                  <a:pt x="238125" y="190500"/>
                </a:lnTo>
                <a:lnTo>
                  <a:pt x="238125" y="166688"/>
                </a:lnTo>
                <a:cubicBezTo>
                  <a:pt x="238125" y="127234"/>
                  <a:pt x="206141" y="95250"/>
                  <a:pt x="166687" y="95250"/>
                </a:cubicBezTo>
                <a:lnTo>
                  <a:pt x="166688" y="95250"/>
                </a:lnTo>
                <a:cubicBezTo>
                  <a:pt x="127234" y="95250"/>
                  <a:pt x="95250" y="127234"/>
                  <a:pt x="95250" y="166688"/>
                </a:cubicBezTo>
                <a:lnTo>
                  <a:pt x="95250" y="381000"/>
                </a:lnTo>
                <a:lnTo>
                  <a:pt x="0" y="381000"/>
                </a:lnTo>
                <a:close/>
              </a:path>
            </a:pathLst>
          </a:custGeom>
          <a:solidFill>
            <a:srgbClr val="050505"/>
          </a:solidFill>
          <a:ln w="12600">
            <a:solidFill>
              <a:srgbClr val="050505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560" y="1447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tart from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nvert t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ilo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0 meters = ___ kilo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3200400"/>
          <a:ext cx="8202600" cy="1076400"/>
        </p:xfrm>
        <a:graphic>
          <a:graphicData uri="http://schemas.openxmlformats.org/drawingml/2006/table">
            <a:tbl>
              <a:tblPr/>
              <a:tblGrid>
                <a:gridCol w="1173240"/>
                <a:gridCol w="1170000"/>
                <a:gridCol w="1174680"/>
                <a:gridCol w="1166760"/>
                <a:gridCol w="1175040"/>
                <a:gridCol w="1170000"/>
                <a:gridCol w="1172880"/>
              </a:tblGrid>
              <a:tr h="10810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22"/>
          <p:cNvSpPr/>
          <p:nvPr/>
        </p:nvSpPr>
        <p:spPr>
          <a:xfrm>
            <a:off x="3581280" y="35812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AutoShape 23"/>
          <p:cNvSpPr/>
          <p:nvPr/>
        </p:nvSpPr>
        <p:spPr>
          <a:xfrm>
            <a:off x="2362320" y="3581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1143000" y="3581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5715000"/>
          <a:ext cx="8381880" cy="10764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81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AutoShape 47"/>
          <p:cNvSpPr/>
          <p:nvPr/>
        </p:nvSpPr>
        <p:spPr>
          <a:xfrm>
            <a:off x="4648320" y="60958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AutoShape 48"/>
          <p:cNvSpPr/>
          <p:nvPr/>
        </p:nvSpPr>
        <p:spPr>
          <a:xfrm>
            <a:off x="5791320" y="60958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380880" y="4343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w l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 start from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centimeter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nd convert to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00 centimeters = ____ 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447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tart from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nvert t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enti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meters = ____ centi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160" y="3124080"/>
          <a:ext cx="8381880" cy="10764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199880"/>
                <a:gridCol w="1194120"/>
                <a:gridCol w="1199880"/>
                <a:gridCol w="1195560"/>
                <a:gridCol w="1198440"/>
              </a:tblGrid>
              <a:tr h="1081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52280" y="5834160"/>
          <a:ext cx="8382240" cy="1076400"/>
        </p:xfrm>
        <a:graphic>
          <a:graphicData uri="http://schemas.openxmlformats.org/drawingml/2006/table">
            <a:tbl>
              <a:tblPr/>
              <a:tblGrid>
                <a:gridCol w="1198800"/>
                <a:gridCol w="1195200"/>
                <a:gridCol w="1200240"/>
                <a:gridCol w="1193760"/>
                <a:gridCol w="1200240"/>
                <a:gridCol w="1195200"/>
                <a:gridCol w="1198800"/>
              </a:tblGrid>
              <a:tr h="1081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45"/>
          <p:cNvSpPr/>
          <p:nvPr/>
        </p:nvSpPr>
        <p:spPr>
          <a:xfrm>
            <a:off x="533520" y="4267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w l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 start from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kilometer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nd convert to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3 kilometers =______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AutoShape 46"/>
          <p:cNvSpPr/>
          <p:nvPr/>
        </p:nvSpPr>
        <p:spPr>
          <a:xfrm rot="10800000">
            <a:off x="4583160" y="354024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AutoShape 47"/>
          <p:cNvSpPr/>
          <p:nvPr/>
        </p:nvSpPr>
        <p:spPr>
          <a:xfrm rot="10800000">
            <a:off x="5802480" y="354024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AutoShape 48"/>
          <p:cNvSpPr/>
          <p:nvPr/>
        </p:nvSpPr>
        <p:spPr>
          <a:xfrm rot="10800000">
            <a:off x="1143000" y="6249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AutoShape 49"/>
          <p:cNvSpPr/>
          <p:nvPr/>
        </p:nvSpPr>
        <p:spPr>
          <a:xfrm rot="10800000">
            <a:off x="2362320" y="6249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AutoShape 50"/>
          <p:cNvSpPr/>
          <p:nvPr/>
        </p:nvSpPr>
        <p:spPr>
          <a:xfrm rot="10800000">
            <a:off x="3580920" y="62496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15235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tart fro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lo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nvert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lli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kilometers = 4,00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0 milli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 kilomet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40 hectometers = 400 decameters = 4,000 meters = 40,000 decimeters = 400,000 centimeters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,000,000 mill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5334120"/>
          <a:ext cx="8381880" cy="10760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81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AutoShape 24"/>
          <p:cNvSpPr/>
          <p:nvPr/>
        </p:nvSpPr>
        <p:spPr>
          <a:xfrm rot="10800000">
            <a:off x="99072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AutoShape 28"/>
          <p:cNvSpPr/>
          <p:nvPr/>
        </p:nvSpPr>
        <p:spPr>
          <a:xfrm rot="10800000">
            <a:off x="342900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AutoShape 29"/>
          <p:cNvSpPr/>
          <p:nvPr/>
        </p:nvSpPr>
        <p:spPr>
          <a:xfrm rot="10800000">
            <a:off x="464832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AutoShape 30"/>
          <p:cNvSpPr/>
          <p:nvPr/>
        </p:nvSpPr>
        <p:spPr>
          <a:xfrm rot="10800000">
            <a:off x="579132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AutoShape 31"/>
          <p:cNvSpPr/>
          <p:nvPr/>
        </p:nvSpPr>
        <p:spPr>
          <a:xfrm rot="10800000">
            <a:off x="7009920" y="57146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AutoShape 32"/>
          <p:cNvSpPr/>
          <p:nvPr/>
        </p:nvSpPr>
        <p:spPr>
          <a:xfrm rot="10800000">
            <a:off x="2209320" y="57146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5235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8240" indent="-21024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units in the metric system ar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8240" indent="-21024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ric system is based o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owers of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8240" indent="-21024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conversions within the metric system, each “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 decimal place to the right or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8240" indent="-21024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diagram below, converting to the right, moves the decimal to the right and vice ve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5562720"/>
          <a:ext cx="8381880" cy="10760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81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ric system is based on a base unit that corresponds to a certain kind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ngth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t (Mass)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174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es plus base units make up the metric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ent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meter = Cent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il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liter = Kilol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79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ree prefix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we will use the most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lo – 1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i – 1/1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li – 1/1,000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4876920"/>
          <a:ext cx="8275680" cy="149364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1523880"/>
                <a:gridCol w="1035000"/>
                <a:gridCol w="1181160"/>
                <a:gridCol w="1182600"/>
              </a:tblGrid>
              <a:tr h="1806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f you needed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sure 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 would choo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you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 of a tree bra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99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 met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 of a ro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99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met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 of a ball of twine stretched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99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4475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what if you need to measure a longer distance, like from your house to scho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1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ay you live approximately 10 miles from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4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miles = 16,093 me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15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,093 is a big number, but what if you could add a prefix onto the base unit to make it easier to man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4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,093 meters = 16.093 kilometers (or 16.1 if rounded to 1 decimal pla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4475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75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prefixes are based on powers of 10. What does this mea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70000"/>
              </a:lnSpc>
              <a:spcBef>
                <a:spcPts val="1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each prefix every “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ith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34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10 ti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es </a:t>
            </a: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la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34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34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10 times </a:t>
            </a: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small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34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34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70000"/>
              </a:lnSpc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enti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10 times larger tha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illi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entimeter = 10 millime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5257800"/>
          <a:ext cx="8275680" cy="149400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1523880"/>
                <a:gridCol w="1035000"/>
                <a:gridCol w="1181160"/>
                <a:gridCol w="1182600"/>
              </a:tblGrid>
              <a:tr h="1806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95480" y="182844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imeters are 10 times larger than millimeters so it takes more millimeters for the same leng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entimeter = 10 milli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5029200"/>
          <a:ext cx="6248520" cy="54936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  <a:gridCol w="625320"/>
                <a:gridCol w="623880"/>
                <a:gridCol w="625680"/>
                <a:gridCol w="623880"/>
                <a:gridCol w="62532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222"/>
          <p:cNvSpPr/>
          <p:nvPr/>
        </p:nvSpPr>
        <p:spPr>
          <a:xfrm>
            <a:off x="1523880" y="5975280"/>
            <a:ext cx="6248520" cy="27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1 c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Line 224"/>
          <p:cNvSpPr/>
          <p:nvPr/>
        </p:nvSpPr>
        <p:spPr>
          <a:xfrm>
            <a:off x="1523880" y="597528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Line 225"/>
          <p:cNvSpPr/>
          <p:nvPr/>
        </p:nvSpPr>
        <p:spPr>
          <a:xfrm>
            <a:off x="1523880" y="6248520"/>
            <a:ext cx="6248520" cy="0"/>
          </a:xfrm>
          <a:prstGeom prst="line">
            <a:avLst/>
          </a:prstGeom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Line 226"/>
          <p:cNvSpPr/>
          <p:nvPr/>
        </p:nvSpPr>
        <p:spPr>
          <a:xfrm>
            <a:off x="1523880" y="59752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Line 236"/>
          <p:cNvSpPr/>
          <p:nvPr/>
        </p:nvSpPr>
        <p:spPr>
          <a:xfrm>
            <a:off x="7772400" y="59752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1" name="Picture 370" descr="E:\My Pictures\ms.jpg"/>
          <p:cNvPicPr/>
          <p:nvPr/>
        </p:nvPicPr>
        <p:blipFill>
          <a:blip r:embed="rId1"/>
          <a:stretch/>
        </p:blipFill>
        <p:spPr>
          <a:xfrm>
            <a:off x="228600" y="2598840"/>
            <a:ext cx="3040200" cy="1439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71"/>
          <p:cNvSpPr/>
          <p:nvPr/>
        </p:nvSpPr>
        <p:spPr>
          <a:xfrm>
            <a:off x="121932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 Box 372"/>
          <p:cNvSpPr/>
          <p:nvPr/>
        </p:nvSpPr>
        <p:spPr>
          <a:xfrm>
            <a:off x="754380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Text Box 373"/>
          <p:cNvSpPr/>
          <p:nvPr/>
        </p:nvSpPr>
        <p:spPr>
          <a:xfrm>
            <a:off x="75438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Text Box 374"/>
          <p:cNvSpPr/>
          <p:nvPr/>
        </p:nvSpPr>
        <p:spPr>
          <a:xfrm>
            <a:off x="129528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2280" y="5257800"/>
          <a:ext cx="8275680" cy="149400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1523880"/>
                <a:gridCol w="1035000"/>
                <a:gridCol w="1181160"/>
                <a:gridCol w="1182600"/>
              </a:tblGrid>
              <a:tr h="1806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5238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“step” to right, you are multiplying by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4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go from a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ase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enti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2276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 liter =  10 deciliters = 100 centili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 grams = 20 decigrams = 200 centi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2041200" y="4038480"/>
            <a:ext cx="55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 1 x 10 = 10)     =    (10 x 10 = 100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1822680" y="4952880"/>
            <a:ext cx="66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2 x 10 = 20)           =       (20 x 10 = 200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2280" y="5257800"/>
          <a:ext cx="8275680" cy="149400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1523880"/>
                <a:gridCol w="1035000"/>
                <a:gridCol w="1181160"/>
                <a:gridCol w="1182600"/>
              </a:tblGrid>
              <a:tr h="1806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2280" y="1447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easy way to move within the metric system is by moving the decimal point one place for each “step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明朝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es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chang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mete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centi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 meter =  10 decimeters = 100 centi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00 meter = 10.0 decimeters = 100. centi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23"/>
          <p:cNvSpPr/>
          <p:nvPr/>
        </p:nvSpPr>
        <p:spPr>
          <a:xfrm rot="10800000">
            <a:off x="4800600" y="632412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AutoShape 24"/>
          <p:cNvSpPr/>
          <p:nvPr/>
        </p:nvSpPr>
        <p:spPr>
          <a:xfrm rot="10800000">
            <a:off x="6019920" y="632412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7:37:18Z</dcterms:created>
  <dc:creator>ar</dc:creator>
  <dc:description/>
  <dc:language>en-US</dc:language>
  <cp:lastModifiedBy>St. Aloysius</cp:lastModifiedBy>
  <cp:lastPrinted>2012-09-11T15:39:28Z</cp:lastPrinted>
  <dcterms:modified xsi:type="dcterms:W3CDTF">2012-10-01T17:13:45Z</dcterms:modified>
  <cp:revision>71</cp:revision>
  <dc:subject/>
  <dc:title>Metric System Basics</dc:title>
</cp:coreProperties>
</file>